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5D37-2222-4308-B1B1-562E74AF7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384F-2D54-473E-8091-CC44230C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F069-32C3-421C-B15A-A25B576EA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B876-EB10-4179-87FC-4E8331AF0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7F83A-0986-409F-84E2-63EB4167F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9AC34-E6A7-4152-A1C5-A54B557F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2C79-7222-4F4F-87BB-50DF0021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CB00-D9C7-4958-BDDA-D8C3744F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9409-0B5D-4138-90F5-6F57EBCD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50B19-D41C-4C2D-A0DD-7DE2E700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BE62-5D83-4F5B-91FB-466962F1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E779-6A0F-46D0-964E-CFA9A9D8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9EB9-CD35-4FDF-87A4-9E1BF7AD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8A06-F2A6-456D-BB71-7E4EF4CB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1128-D058-4B6C-A05F-6707C845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4D24-993A-4BAA-B43E-E8A078F23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111A-7532-453C-9C2A-BAE6808C4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8574-1888-4596-9D6D-FE415D4E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1ADB-E0AB-43E3-8BF4-7C3E72AF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5660-2936-41A0-87CC-A3532835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0F2E-1A47-40A1-AC92-AA3AD586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F29D-9D5B-4161-9B08-FDE3D2FC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AAEB-CD23-4052-8A0F-F2B9A59A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AB5E-E28A-469D-833E-2BCF9B80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3C34-B64C-49D0-8BAB-8E7A8FE356D3}" type="slidenum">
              <a:rPr b="0" lang="ar-S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1C46-AF22-4174-A0D2-443075F7DDD3}" type="slidenum">
              <a:rPr b="0" lang="ar-S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24000" y="838080"/>
            <a:ext cx="6696000" cy="518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190520" y="843120"/>
            <a:ext cx="676296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14280" y="852480"/>
            <a:ext cx="67154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24000" y="861840"/>
            <a:ext cx="669600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233360" y="833400"/>
            <a:ext cx="667728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24000" y="852480"/>
            <a:ext cx="6696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14280" y="843120"/>
            <a:ext cx="671544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224000" y="852480"/>
            <a:ext cx="6696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5T07:51:07Z</dcterms:created>
  <dc:creator>0mar a. ali</dc:creator>
  <dc:description/>
  <dc:language>en-US</dc:language>
  <cp:lastModifiedBy>0mar a. ali</cp:lastModifiedBy>
  <dcterms:modified xsi:type="dcterms:W3CDTF">2006-06-26T12:21:35Z</dcterms:modified>
  <cp:revision>3</cp:revision>
  <dc:subject/>
  <dc:title>Slide 1</dc:title>
</cp:coreProperties>
</file>